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6C7C-F490-4AA9-8B54-1BE43ABDD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5E57-2332-44EB-846F-7A086FEE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7563-28EC-4A67-881B-7AA43EFB8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9565-8C7B-4AB8-8A49-01FCD7096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9AC7-4302-44C5-A208-760266E5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0CBB-19EF-4DFC-9B15-8BBA7C5F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6ACA-8081-4AA1-A017-55299875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8CF5-9617-462C-8C12-C3087931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B4F5-9D23-4AE7-A2B9-14BFA3DE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CD57-C925-4404-A6CD-A80FF810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D1FA-12FB-458B-8749-5A45AD51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1CC7-3455-43D3-ADEB-28F4BFB9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aixa1"/>
          <p:cNvPicPr/>
          <p:nvPr/>
        </p:nvPicPr>
        <p:blipFill>
          <a:blip r:embed="rId2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utiger-Bold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294F-0793-4F2C-8B89-A443860FA70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faixa3"/>
          <p:cNvPicPr/>
          <p:nvPr/>
        </p:nvPicPr>
        <p:blipFill>
          <a:blip r:embed="rId3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000" spc="-1" strike="noStrike">
              <a:solidFill>
                <a:srgbClr val="ffffff"/>
              </a:solidFill>
              <a:latin typeface="Frutiger-Bold"/>
            </a:endParaRPr>
          </a:p>
        </p:txBody>
      </p:sp>
      <p:pic>
        <p:nvPicPr>
          <p:cNvPr id="44" name="Picture 4" descr="faixa curso plano hab"/>
          <p:cNvPicPr/>
          <p:nvPr/>
        </p:nvPicPr>
        <p:blipFill>
          <a:blip r:embed="rId1"/>
          <a:stretch/>
        </p:blipFill>
        <p:spPr>
          <a:xfrm>
            <a:off x="0" y="0"/>
            <a:ext cx="9144000" cy="4159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logos Plano Hab"/>
          <p:cNvPicPr/>
          <p:nvPr/>
        </p:nvPicPr>
        <p:blipFill>
          <a:blip r:embed="rId2"/>
          <a:stretch/>
        </p:blipFill>
        <p:spPr>
          <a:xfrm>
            <a:off x="0" y="5408640"/>
            <a:ext cx="9144000" cy="14493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"/>
          <p:cNvSpPr/>
          <p:nvPr/>
        </p:nvSpPr>
        <p:spPr>
          <a:xfrm>
            <a:off x="1979640" y="443700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Frutiger-Bold"/>
              </a:rPr>
              <a:t>São Paulo, 19 e 20 de junho de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Déficit Habitacional da Fundação João Pinheir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Frutiger 55 Roman"/>
              </a:rPr>
              <a:t>Domicílios com coabitação familiar: </a:t>
            </a: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compreende a soma das famílias conviventes secundárias com as famílias que viviam em cômodos cedidos ou alugados (considerados como domicílios com coabitação disfarçada).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Frutiger 55 Roman"/>
              </a:rPr>
              <a:t>Famílias conviventes secundárias:</a:t>
            </a: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 famílias constituídas por, no mínimo, duas pessoas que residem em um mesmo domicílio junto com outra família denominada principal.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Déficit Habitacional da Fundação João Pinheir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357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Frutiger 55 Roman"/>
              </a:rPr>
              <a:t>Domicílios cujos moradores possuem ônus excessivo com aluguel:</a:t>
            </a: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 domicílios com famílias que recebem até três salários mínimos e tem 30% da sua renda familiar comprometida com aluguel - parâmetro do antigo BNH e CEF  - máximo tolerável de gasto direto com habitação. 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Frutiger 55 Roman"/>
              </a:rPr>
              <a:t>Observação:</a:t>
            </a: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 no caso de domicílios com famílias conviventes, a FJP considerou apenas a renda da família principal.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Déficit Habitacional da Fundação João Pinheir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Domicílios com adensamento interno excessivo: </a:t>
            </a: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domicílios com mais de três pessoas por dormitório definido como o cômodo utilizado, com exceção do banheiro, para essa finalidade em caráter permanente por morador do domicílio na data de referência da pesquisa.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Déficit Habitacional da Fundação João Pinheir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Domicílios com carência de serviços de infra-estrutura: d</a:t>
            </a: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omicílios que não possuem um ou mais dos seguintes serviços básicos: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distribuição de água;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fornecimento de energia elétrica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coleta de lixo e de esgoto.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Déficit Habitacional da Fundação João Pinheir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Domicílios com inadequação fundiária urbana: </a:t>
            </a: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domicílios com moradores que declararam não ter a propriedade do terreno e sim apenas da construção.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Déficit Habitacional Básico da Fundação João Pinheiro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Déficit Habitacional Básico da Fundação João Pinheir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143080" y="1714680"/>
          <a:ext cx="5043600" cy="3571560"/>
        </p:xfrm>
        <a:graphic>
          <a:graphicData uri="http://schemas.openxmlformats.org/drawingml/2006/table">
            <a:tbl>
              <a:tblPr/>
              <a:tblGrid>
                <a:gridCol w="50436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Déficit habitacional bás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enda média famili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676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eposição do esto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Domicílios rúst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21542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Incremento do esto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Domicílios improvis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oabitação famili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Famílias conviventes secundár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ômodos alugados e cedidos (coabitação disfarçad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</a:tbl>
          </a:graphicData>
        </a:graphic>
      </p:graphicFrame>
      <p:sp>
        <p:nvSpPr>
          <p:cNvPr id="78" name="CaixaDeTexto 4"/>
          <p:cNvSpPr/>
          <p:nvPr/>
        </p:nvSpPr>
        <p:spPr>
          <a:xfrm>
            <a:off x="1685520" y="5357880"/>
            <a:ext cx="61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bservação: Exclui a variável ônus excessivo com alug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Déficit Habitacional – Déficit Habitacional Básic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0" y="1857240"/>
          <a:ext cx="9144000" cy="314028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Regi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Déficit Habitacional – 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% - total de domicíl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Déficit Habitacional Básico – 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% - total de domicíl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N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848.6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3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812.6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Norde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.851.1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.515.1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Sude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.341.6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.660.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S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678.8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516.6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entro Oe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502.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385.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Bras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7.222.6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5.890.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  <p:sp>
        <p:nvSpPr>
          <p:cNvPr id="81" name="CaixaDeTexto 7"/>
          <p:cNvSpPr/>
          <p:nvPr/>
        </p:nvSpPr>
        <p:spPr>
          <a:xfrm>
            <a:off x="0" y="5000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nte: Déficit Habitacional no Brasil – Municípios Selecionados e Micro-regiões geográficas, Fundação João Pinheiro – Centro de Estatística e Informações,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Déficit Habitacional – Déficit Habitacional Básic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Frutiger 55 Roman"/>
              </a:rPr>
              <a:t>Déficit Habitacional (PNAD e Censos)</a:t>
            </a: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 – Resultados agregados por Estados, Distrito Federal e Regiões Metropolitana de Belém, Fortaleza, Recife, Salvador, Belo Horizonte, Rio de Janeiro, São Paulo, Curitiba e Porto Alegre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Frutiger 55 Roman"/>
              </a:rPr>
              <a:t>Déficit Habitacional Básico (Censo 2000)</a:t>
            </a: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 – Resultados agregados por Estados, Distrito Federal, municípios com mais de 20 mil habitantes, municípios com menos de 20 mil habitantes agrupados em micro-regiões geográficas do IBGE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Complementação local dos cálculos da Fundação João Pinheiro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faixa2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158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26920" y="1988640"/>
            <a:ext cx="7777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Frutiger 55 Roman"/>
              </a:rPr>
              <a:t>Análise e Quantificação das Necessidades Habitacionais Locais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372360" y="371628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Kazuo Nak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Complementação local dos cálculos da Fundação João Pinheir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Frutiger 55 Roman"/>
              </a:rPr>
              <a:t>A coabitação familiar</a:t>
            </a: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 – não se pode considerar todas as famílias conviventes num mesmo domicílio como demandas automáticas por novas moradias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Frutiger 55 Roman"/>
              </a:rPr>
              <a:t>Campos de Goytacazes (RJ, 2006)</a:t>
            </a: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 - no universo total de famílias conviventes daquele município, 64% deve ser considerada como parte do déficit habitacional local, dos quais 48% com alta expectativa de mudança e 16% com baixa expectativa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Complementação local dos cálculos da Fundação João Pinheir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As rendas domiciliares das unidades com famílias conviventes incluídas no déficit habitacional foram: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44%: até 3 salários mínimos;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34%: mais de 3 a 5 salários mínimos;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13%: mais de 5 a 10 salários mínimos;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4%: mais de 10 salários mínimos;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5%: sem declaração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Complementação local dos cálculos da Fundação João Pinheir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Frutiger 55 Roman"/>
              </a:rPr>
              <a:t>Moradias em áreas com irregularidade fundiária:</a:t>
            </a: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 enquanto o cálculo do déficit por famílias conviventes está super-dimensionado, a inadequação por irregularidade na titulação da propriedade do terreno está sub-dimensionada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Frutiger 55 Roman"/>
              </a:rPr>
              <a:t>Sub-dimensionamento dos domicílios com inadequação fundiária segundo a FJP:</a:t>
            </a: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 1,7 milhão (PNAD 2005) - 3,2% do total de domicílios (53 milhões) e 3,8% do total de domicílios urbanos (45 milhões)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Complementação local dos cálculos da Fundação João Pinheir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Dimensionamento do estoque de moradias depreciadas: </a:t>
            </a: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não se trata de habitações com carência de infra-estrutura ou precária. Trata-se de habitações obsoletas (com mais de 50 anos) que precisam ser refeitas ou reformadas.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Complementação local dos cálculos da Fundação João Pinheir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Frutiger 55 Roman"/>
              </a:rPr>
              <a:t>Domicílios vagos:</a:t>
            </a: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 domicílios sem moradores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Frutiger 55 Roman"/>
              </a:rPr>
              <a:t>Censo 1991</a:t>
            </a: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 - 3 milhões de domicílios particulares urbanos vagos (9,36% do estoque total)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Frutiger 55 Roman"/>
              </a:rPr>
              <a:t>Censo 2000</a:t>
            </a: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 - 4,6 milhões de domicílios particulares urbanos vagos (10,3% do estoque total), 450 mil domicílios fechados e 1,9 milhão de uso  ocasional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É preciso levantar os domicílios vagos que podem ser direcionados para programas habitacionais – dação em pagamento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Complementação local dos cálculos da Fundação João Pinheir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1857240"/>
          <a:ext cx="9144000" cy="330516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341280">
                <a:tc rowSpan="2">
                  <a:txBody>
                    <a:bodyPr lIns="34920" rIns="34920" tIns="34920" bIns="34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gridSpan="3"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Domicílios vagos - 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% sobre domicílios vag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% sobre dom. vagos urba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Urba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u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Dom.  pode ser ocup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Dom. em const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Dom. em ruí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Dom. urb. pode ser ocup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Dom. urb. em const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Dom. urb. em ruí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3984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Bras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6.736.4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5.084.2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.652.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8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8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4128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Nor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423.4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312.7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10.6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8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8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4128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Norde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.827.9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.081.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745.9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9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8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3948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Sude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3.117.7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.661.8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455.8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8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8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4128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S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876.0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640.0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35.9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9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9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38040"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. Oe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491.2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387.6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03.6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8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8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</a:tbl>
          </a:graphicData>
        </a:graphic>
      </p:graphicFrame>
      <p:sp>
        <p:nvSpPr>
          <p:cNvPr id="98" name="CaixaDeTexto 4"/>
          <p:cNvSpPr/>
          <p:nvPr/>
        </p:nvSpPr>
        <p:spPr>
          <a:xfrm>
            <a:off x="3600" y="5143680"/>
            <a:ext cx="316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nte Básica: PNAD 200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laboração: Fundação João Pinheiro, 20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Frutiger 55 Roman"/>
              </a:rPr>
              <a:t>Dimensionamento dos Assentamentos Precários e Estimativa da Irregularidade Fundiária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Dimensionamento dos Assentamentos Precários e Estimativa da Irregularidade Fundiária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Frutiger 55 Roman"/>
              </a:rPr>
              <a:t>Total de domicílios em assentamentos precários no país </a:t>
            </a: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- 3.149.288 unidades (pesquisa CEM/CEBRAP em 526 municípios).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Frutiger 55 Roman"/>
              </a:rPr>
              <a:t>Domicílios em assentamentos precários em regiões metropolitanas</a:t>
            </a: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 - 2.367.418 unidades (75,17%) - Regiões Metropolitanas de Belém, Salvador, Fortaleza, Recife, Curitiba, Porto Alegre, Belo Horizonte, Rio de Janeiro e São Paulo.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Dimensionamento dos Assentamentos Precários e Estimativa da Irregularidade Fundiária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0" y="1357200"/>
          <a:ext cx="9144000" cy="44402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7318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Regiões Metropolitan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Domicílios em Assentamentos Precá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% - total n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% - total metropolit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3700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M BELÉ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04.5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6,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8,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71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M SALVAD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8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5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7,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11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M FORTALE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69.7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5,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7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700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M RECIF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36.9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4,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5,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1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M CURITI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83.1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,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3,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697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M PORTO ALEG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10.2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3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4,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1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M BELO HORIZO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88.8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6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7,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71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M RIO DE JANEI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630.5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6,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697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M SÃO PA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662.1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1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7,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71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.367.4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75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  <p:sp>
        <p:nvSpPr>
          <p:cNvPr id="105" name="CaixaDeTexto 4"/>
          <p:cNvSpPr/>
          <p:nvPr/>
        </p:nvSpPr>
        <p:spPr>
          <a:xfrm>
            <a:off x="7560" y="5786280"/>
            <a:ext cx="514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nte básica: Censo Demográfico IBGE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ntes: CEM/ Cebrap - Assentamentos Precários no Brasil Urbano.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Dimensionamento dos Assentamentos Precários e Estimativa da Irregularidade Fundiária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pic>
        <p:nvPicPr>
          <p:cNvPr id="107" name="Espaço Reservado para Conteúdo 3" descr="63_RMRJ.jpg"/>
          <p:cNvPicPr/>
          <p:nvPr/>
        </p:nvPicPr>
        <p:blipFill>
          <a:blip r:embed="rId1"/>
          <a:stretch/>
        </p:blipFill>
        <p:spPr>
          <a:xfrm>
            <a:off x="928800" y="1357200"/>
            <a:ext cx="7286400" cy="5478480"/>
          </a:xfrm>
          <a:prstGeom prst="rect">
            <a:avLst/>
          </a:prstGeom>
          <a:ln w="0">
            <a:noFill/>
          </a:ln>
        </p:spPr>
      </p:pic>
      <p:sp>
        <p:nvSpPr>
          <p:cNvPr id="108" name="CaixaDeTexto 4"/>
          <p:cNvSpPr/>
          <p:nvPr/>
        </p:nvSpPr>
        <p:spPr>
          <a:xfrm>
            <a:off x="243000" y="1273320"/>
            <a:ext cx="46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gião Metropolitana do Rio de Janeiro - R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Frutiger-Bold"/>
              </a:rPr>
              <a:t>Premissa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Dimensionamento das necessidades habitacionais com vistas a elaboração de propostas para o plano municipal de habitação;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Análise qualitativa dos diferentes tipos de necessidades habitacionais, hábitos de moradia, formas de provisão habitacional.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Dimensionamento dos Assentamentos Precários e Estimativa da Irregularidade Fundiária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pic>
        <p:nvPicPr>
          <p:cNvPr id="110" name="Espaço Reservado para Conteúdo 3" descr="85_RMCampinas.jpg"/>
          <p:cNvPicPr/>
          <p:nvPr/>
        </p:nvPicPr>
        <p:blipFill>
          <a:blip r:embed="rId1"/>
          <a:stretch/>
        </p:blipFill>
        <p:spPr>
          <a:xfrm>
            <a:off x="2428920" y="1285920"/>
            <a:ext cx="4786200" cy="5594400"/>
          </a:xfrm>
          <a:prstGeom prst="rect">
            <a:avLst/>
          </a:prstGeom>
          <a:ln w="0">
            <a:noFill/>
          </a:ln>
        </p:spPr>
      </p:pic>
      <p:sp>
        <p:nvSpPr>
          <p:cNvPr id="111" name="CaixaDeTexto 4"/>
          <p:cNvSpPr/>
          <p:nvPr/>
        </p:nvSpPr>
        <p:spPr>
          <a:xfrm>
            <a:off x="0" y="1214280"/>
            <a:ext cx="44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gião Metropolitana de Campinas - 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Dimensionamento dos Assentamentos Precários e Estimativa da Irregularidade Fundiária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Domicílios em assentamentos precários em municípios não metropolitanos com mais de 20 mil habitantes - </a:t>
            </a: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781.870 unidades (24,83% do total nacional).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Concentração no Nordeste e Sudeste</a:t>
            </a: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 - 69,97% de domicílios em assentamentos precários de pequenos municípios.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Dimensionamento dos Assentamentos Precários e Estimativa da Irregularidade Fundiária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pic>
        <p:nvPicPr>
          <p:cNvPr id="115" name="Espaço Reservado para Conteúdo 3" descr="106_jundiai.jpg"/>
          <p:cNvPicPr/>
          <p:nvPr/>
        </p:nvPicPr>
        <p:blipFill>
          <a:blip r:embed="rId1"/>
          <a:stretch/>
        </p:blipFill>
        <p:spPr>
          <a:xfrm>
            <a:off x="1857240" y="1214280"/>
            <a:ext cx="5850000" cy="5643720"/>
          </a:xfrm>
          <a:prstGeom prst="rect">
            <a:avLst/>
          </a:prstGeom>
          <a:ln w="0">
            <a:noFill/>
          </a:ln>
        </p:spPr>
      </p:pic>
      <p:sp>
        <p:nvSpPr>
          <p:cNvPr id="116" name="CaixaDeTexto 4"/>
          <p:cNvSpPr/>
          <p:nvPr/>
        </p:nvSpPr>
        <p:spPr>
          <a:xfrm>
            <a:off x="437400" y="178596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undiaí - 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Dimensionamento dos Assentamentos Precários e Estimativa da Irregularidade Fundiária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pic>
        <p:nvPicPr>
          <p:cNvPr id="118" name="Espaço Reservado para Conteúdo 6" descr="35_feiradesantana.jpg"/>
          <p:cNvPicPr/>
          <p:nvPr/>
        </p:nvPicPr>
        <p:blipFill>
          <a:blip r:embed="rId1"/>
          <a:stretch/>
        </p:blipFill>
        <p:spPr>
          <a:xfrm>
            <a:off x="1573200" y="1214280"/>
            <a:ext cx="6213600" cy="5643720"/>
          </a:xfrm>
          <a:prstGeom prst="rect">
            <a:avLst/>
          </a:prstGeom>
          <a:ln w="0">
            <a:noFill/>
          </a:ln>
        </p:spPr>
      </p:pic>
      <p:sp>
        <p:nvSpPr>
          <p:cNvPr id="119" name="CaixaDeTexto 4"/>
          <p:cNvSpPr/>
          <p:nvPr/>
        </p:nvSpPr>
        <p:spPr>
          <a:xfrm>
            <a:off x="13680" y="171468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eira de Santana - 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Dimensionamento dos Assentamentos Precários e Estimativa da Irregularidade Fundiária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47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Frutiger 55 Roman"/>
              </a:rPr>
              <a:t>Percentuais de domicílios em assentamentos precários realocados </a:t>
            </a:r>
            <a:r>
              <a:rPr b="0" lang="pt-BR" sz="2200" spc="-1" strike="noStrike">
                <a:solidFill>
                  <a:srgbClr val="000000"/>
                </a:solidFill>
                <a:latin typeface="Frutiger 55 Roman"/>
              </a:rPr>
              <a:t>(PlanHab):</a:t>
            </a:r>
            <a:endParaRPr b="0" lang="en-US" sz="2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Frutiger 55 Roman"/>
              </a:rPr>
              <a:t>27% do total de domicílios urbanos em assentamentos precários localizados em regiões metropolitanas – 639.203 unidades; </a:t>
            </a:r>
            <a:endParaRPr b="0" lang="en-US" sz="2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Frutiger 55 Roman"/>
              </a:rPr>
              <a:t>45% do total de domicílios urbanos em assentamentos precários localizados em municípios fora de regiões metropolitanas – 351.842 unidades.</a:t>
            </a:r>
            <a:endParaRPr b="0" lang="en-US" sz="2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Frutiger 55 Roman"/>
              </a:rPr>
              <a:t>Total estimado de domicílios urbanos de assentamentos precários realocados - 991.045 unidades (31,5% do total).</a:t>
            </a:r>
            <a:endParaRPr b="0" lang="en-US" sz="2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Dimensionamento dos Assentamentos Precários e Estimativa da Irregularidade Fundiária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Frutiger 55 Roman"/>
              </a:rPr>
              <a:t>Domicílios com carência de serviços e infra-estrutura e, possivelmente, em áreas irregulares</a:t>
            </a: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 - 8.979.239 domicílios urbanos, inseridos ou não nos assentamentos precários (abastecimento de água, coleta de esgoto, coleta de lixo e fornecimento de energia elétrica)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Frutiger 55 Roman"/>
              </a:rPr>
              <a:t>94,2% do total nacional em municípios não metropolitanos</a:t>
            </a: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 - 8.455.516 domicílios (45,8% em municípios com menos de 20 mil habitantes e 48,4% com mais de 20 mil habitantes)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Dimensionamento dos Assentamentos Precários e Estimativa da Irregularidade Fundiária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pic>
        <p:nvPicPr>
          <p:cNvPr id="125" name="Espaço Reservado para Conteúdo 3" descr=""/>
          <p:cNvPicPr/>
          <p:nvPr/>
        </p:nvPicPr>
        <p:blipFill>
          <a:blip r:embed="rId1"/>
          <a:stretch/>
        </p:blipFill>
        <p:spPr>
          <a:xfrm>
            <a:off x="450720" y="1195560"/>
            <a:ext cx="824256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Estimativa da Autopromoção Habitacional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Estimativa da Autopromoção Habitacional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Frutiger 55 Roman"/>
              </a:rPr>
              <a:t>De 1991 a 2000: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incremento de 15.177.598 domicílios particulares permanentes urbanos no Brasil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2,2 milhões de novas habitações financiadas pelo SBPE e FGTS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12.977.598  unidades (85,5%) autopromovidas e de promoção pública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1 milhão de unidades – promoção pública estimada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11.977.598 unidades autopromovidas (79% do total do incremento)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Análise sobre a disponibilidade de terras urbanas para habitação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Frutiger-Bold"/>
              </a:rPr>
              <a:t>Sumário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Déficit Habitacional da Fundação João Pinheiro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25800" indent="-325800" algn="just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Déficit Habitacional Básico da Fundação João Pinheiro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25800" indent="-325800" algn="just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Complementação local dos cálculos da Fundação João Pinheiro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25800" indent="-325800" algn="just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Dimensionamento dos Assentamentos Precários e Estimativa da Irregularidade Fundiária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25800" indent="-325800" algn="just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Estimativa da Autopromoção Habitacional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25800" indent="-325800" algn="just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Análise sobre a disponibilidade de terras urbanas para habitação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Análise sobre a disponibilidade de terras urbanas para habitaçã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pic>
        <p:nvPicPr>
          <p:cNvPr id="133" name="Espaço Reservado para Conteúdo 5" descr="141.JPG"/>
          <p:cNvPicPr/>
          <p:nvPr/>
        </p:nvPicPr>
        <p:blipFill>
          <a:blip r:embed="rId1"/>
          <a:srcRect l="0" t="0" r="0" b="22775"/>
          <a:stretch/>
        </p:blipFill>
        <p:spPr>
          <a:xfrm>
            <a:off x="1928880" y="1214280"/>
            <a:ext cx="550080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Análise sobre a disponibilidade de terras urbanas para habitaçã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742968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Análise sobre a disponibilidade de terras urbanas para habitaçã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774720" y="1214280"/>
            <a:ext cx="77263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Análise sobre a disponibilidade de terras urbanas para habitaçã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642960" y="1214280"/>
            <a:ext cx="7715160" cy="564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Déficit Habitacional da Fundação João Pinheiro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Déficit Habitacional da Fundação João Pinheiro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1600200"/>
          <a:ext cx="9144000" cy="41353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30096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Déficit habit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9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Primeira publicação – 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Segunda publicação – 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Terceira publicação – 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00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enda média domicili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enda média famili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enda média famili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8938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eposição do esto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Domicílios rúst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eposição do esto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Domicílios rúst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Domicílios depreci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eposição do esto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Domicílios rúst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2340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Incremento do esto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Domicílios improvis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oabitação domicili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Famílias conviventes secundár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ômodos alugados e cedid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Incremento do esto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Domicílios improvis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oabitação famili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Famílias conviventes secundár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ômodos alugados e cedidos (coabitação disfarçad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Ônus excessivo com alugu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Incremento do esto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Domicílios improvis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oabitação famili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Famílias conviventes secundár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ômodos alugados e cedidos (coabitação disfarçad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Ônus excessivo com alugu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Déficit Habitacional da Fundação João Pinheir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434960"/>
          <a:ext cx="9144000" cy="4923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28728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Inadequação habit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62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Primeira publicação – 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Segunda publicação – 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Terceira publicação – 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2872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enda média domicili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enda média famili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enda média famili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4266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Densidade excessiva de moradores por dormitó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Densidade excessiva de moradores por dormitó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Densidade excessiva de moradores por dormitó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Ônus excessivo com alugu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20005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Inadequação da infra-estru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arência de infra-estru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Infra-estrutura inadequ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Qualidade de infra-estrutura fís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Inexistência de unidade sanitária domiciliar inter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arência de serviços de infra-estrutura – energia elétrica, abastecimento de água, esgotamento sanitário e coleta de li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arência de serviços de infra-estrutura – energia elétrica, abastecimento de água, esgotamento sanitário e coleta de li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28620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Inadequação fundiária urb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Inadequação fundiária urb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Inadequados em função da depreci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Inexistência de unidade sanitária domiciliar inter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Inexistência de unidade sanitária domiciliar inter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Déficit Habitacional da Fundação João Pinheir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Domicílios rústicos: </a:t>
            </a: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domicílios que não apresentam paredes de alvenaria ou madeira aparelhada, construídas com materiais inapropriados. Apresentam desconforto para seus ocupantes, riscos de desmoronamento e contaminação por doenças em decorrência de suas precárias condições de salubridade.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Déficit Habitacional da Fundação João Pinheir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Domicílios improvisados: </a:t>
            </a: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domicílios instalados em locais construídos para fins não residenciais que, no momento em que foi realizada a pesquisa, serviam de moradia como, por exemplo, lojas, fábricas, embarcações, carroças, vagões de trens, tendas e grutas.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3T19:09:27Z</dcterms:created>
  <dc:creator>Pollini</dc:creator>
  <dc:description/>
  <dc:language>en-US</dc:language>
  <cp:lastModifiedBy>Kazuo</cp:lastModifiedBy>
  <dcterms:modified xsi:type="dcterms:W3CDTF">2008-06-19T21:02:34Z</dcterms:modified>
  <cp:revision>64</cp:revision>
  <dc:subject/>
  <dc:title>Slide 1</dc:title>
</cp:coreProperties>
</file>